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1.jpeg" ContentType="image/jpeg"/>
  <Override PartName="/ppt/media/camera.wav" ContentType="audio/x-wav"/>
  <Override PartName="/ppt/media/image19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8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CF0-7DEA-4D1E-A272-CFB10B30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599-60F4-4388-B776-B964436F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870-0035-42DE-AC53-DC97E137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F8D-1EEF-4764-AAC5-205729E3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7E3-5B5C-4A09-8DEF-4968D3C2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276-5166-4EDD-8F3F-3E506E11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7BD-3128-46D5-9E4B-88AE8F5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F7C-BA7D-40D7-A30E-A4082AF5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530-8F70-4307-A5E0-66780CCD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F27-6A8E-4370-B9E0-775E5CC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1BE-601B-4EB9-A847-1B09C75F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A5D-8763-4351-A09D-7AEF19F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E1FD-D40F-46F3-B866-F8AFC3E322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r?u=http://www.policemuseum.com.cn/cnnav/news/hryy/item/images/451892_0.jpg&amp;f=http://www.policemuseum.com.cn/cnnav/news/hryy/item/2001_02/451892.shtml&amp;c=baidu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.baidu.com/ir?u=http://www.tysy.com.cn/news/2001cjwh/tpzl01.jpg&amp;f=http://www.tysy.com.cn/news/2001cjwh/2001_tpzl_01.html&amp;c=baidu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.baidu.com/ir?u=http://www.xiangsheng.com.cn/houbaolin/images/hui18.jpg&amp;f=http://www.xiangsheng.com.cn/houbaolin/yanchu.htm&amp;c=baidu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etvnet.net/19&apos;,&apos;80&apos;,&apos;1" TargetMode="External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image" Target="../media/image31.jpeg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imdb.com/name/nm0000163/photogallery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chez.com/alaincine8/HoffmanAgr01.htm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35280" cy="68580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73332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ff00"/>
                </a:solidFill>
                <a:latin typeface="Century Gothic"/>
                <a:ea typeface="바탕"/>
              </a:rPr>
              <a:t>Unit 20 Hum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480" y="616572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00"/>
                </a:solidFill>
                <a:latin typeface="Century Gothic"/>
              </a:rPr>
              <a:t>Comedian Comedian Comedian Comedian Comedian</a:t>
            </a:r>
            <a:r>
              <a:rPr b="0" lang="en-US" sz="1800" spc="-1" strike="noStrike">
                <a:solidFill>
                  <a:srgbClr val="02626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700280"/>
            <a:ext cx="4181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935600"/>
            <a:ext cx="8569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 J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a well-known artist o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rosstalk sh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China.  His crosstalk shows always make his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udienc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out wit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laugh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3600360" cy="476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708360" y="44280"/>
            <a:ext cx="5410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3444840"/>
            <a:ext cx="4465800" cy="3224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44280"/>
            <a:ext cx="4537080" cy="339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920" y="3451320"/>
            <a:ext cx="4537080" cy="321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剧照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4643280" y="3500280"/>
            <a:ext cx="446580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4920" y="3502080"/>
            <a:ext cx="4537080" cy="316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4653000" y="3500280"/>
            <a:ext cx="4383000" cy="317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25560" y="3454560"/>
            <a:ext cx="4546440" cy="321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7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8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9"/>
          <a:stretch/>
        </p:blipFill>
        <p:spPr>
          <a:xfrm>
            <a:off x="34920" y="44280"/>
            <a:ext cx="4554720" cy="496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0"/>
          <a:stretch/>
        </p:blipFill>
        <p:spPr>
          <a:xfrm>
            <a:off x="4649760" y="44280"/>
            <a:ext cx="4416480" cy="496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373720"/>
            <a:ext cx="78483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Some other famous </a:t>
            </a:r>
            <a:r>
              <a:rPr b="1" lang="en-US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comedians</a:t>
            </a: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in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33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5715000" cy="4206960"/>
          </a:xfrm>
          <a:prstGeom prst="rect">
            <a:avLst/>
          </a:prstGeom>
          <a:ln w="0">
            <a:noFill/>
          </a:ln>
        </p:spPr>
      </p:pic>
      <p:pic>
        <p:nvPicPr>
          <p:cNvPr id="97" name="hbl01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3848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Crosstal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082080" cy="6697800"/>
            <a:chOff x="0" y="0"/>
            <a:chExt cx="9082080" cy="66978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867280" y="314172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952880" y="39852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048120" y="260820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797040" y="62712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  <p:sp>
        <p:nvSpPr>
          <p:cNvPr id="105" name=""/>
          <p:cNvSpPr/>
          <p:nvPr/>
        </p:nvSpPr>
        <p:spPr>
          <a:xfrm>
            <a:off x="828720" y="4678200"/>
            <a:ext cx="12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马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80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巩汉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24210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陈佩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558972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赵本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00160" cy="241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1268280"/>
            <a:ext cx="66247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Do they share something in common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74508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hey all can make us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7200" y="2286000"/>
            <a:ext cx="5608800" cy="3484440"/>
          </a:xfrm>
          <a:prstGeom prst="rect">
            <a:avLst/>
          </a:pr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fef3e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是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是  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四  是  十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十  是  四  十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55840" y="1268280"/>
            <a:ext cx="1963800" cy="70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f7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口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16" name=""/>
            <p:cNvSpPr/>
            <p:nvPr/>
          </p:nvSpPr>
          <p:spPr>
            <a:xfrm>
              <a:off x="0" y="2619360"/>
              <a:ext cx="9143640" cy="238860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0"/>
              <a:ext cx="9143640" cy="92448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924480"/>
              <a:ext cx="9143640" cy="169488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5008320"/>
              <a:ext cx="9143640" cy="184932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1960" y="182520"/>
            <a:ext cx="77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tongue twister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ompet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921800" y="5905440"/>
            <a:ext cx="118728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609480"/>
            <a:ext cx="8381880" cy="71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1.I scream, you scream, we all scream for ice-cream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When you write copy you have the right to copyright the copy you write.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3.A big black bug bit a big black dog on his big black no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4.How much pot, could a pot roast roast, if a pot roast could roast p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52280"/>
            <a:ext cx="87631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词汇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ractise, humour, comedian, intend, bitter, marry, audience, 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短语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ould like(=would love/should like) to do…, have…in mind, in the middle of, think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句式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  (1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+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＋宾语补足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I (We) don’t think (suppose, believe, guess…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0030" descr=""/>
          <p:cNvPicPr/>
          <p:nvPr/>
        </p:nvPicPr>
        <p:blipFill>
          <a:blip r:embed="rId2"/>
          <a:stretch/>
        </p:blipFill>
        <p:spPr>
          <a:xfrm>
            <a:off x="7315200" y="5745240"/>
            <a:ext cx="15667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f course, I would like to reach a wide audience, though I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hav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dults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in mind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stly  adv.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主要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314440"/>
            <a:ext cx="853416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大部分都相当年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y are ~ fairly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假日多半在家里度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 spent my holidays ~ at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有时也会晚起床，但通常早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He gets up late sometimes, but ~ he gets up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7921440" cy="453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587700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n there is only one man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380880"/>
            <a:ext cx="228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9625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leases his parents _______ is that he has made great prog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visitors to the exhibition are ______ stud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304920"/>
            <a:ext cx="7238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主要地，大部分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多数的，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st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v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最高级）“最……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most successful wo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5720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44792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962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525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… in min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想，记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30480"/>
            <a:ext cx="7010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把心中所想的告诉了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told me what she had in min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记住这些规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lease have these rules in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304920"/>
            <a:ext cx="822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…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 German for example, alway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230480"/>
            <a:ext cx="83822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表示“产生预期的结果或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tories always work with child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rules work and few books are stolen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733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孩子而言，故事总是管用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268280"/>
            <a:ext cx="8229600" cy="147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t’s a bitter sweet s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那是一支又苦涩又甜蜜的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90440"/>
            <a:ext cx="914400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打算，想要，有……意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打算在东莞长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Do you intend to make a long stay in Donggu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 intend sb. to do st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打算要他们接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hem to take o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intend that -claus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ah these plans (should) be carried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7921440" cy="460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2436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“ </a:t>
            </a: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特困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809880" cy="446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7226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is good at  Chinese Kong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8991360" cy="6781680"/>
            <a:chOff x="0" y="0"/>
            <a:chExt cx="8991360" cy="6781680"/>
          </a:xfrm>
        </p:grpSpPr>
        <p:sp>
          <p:nvSpPr>
            <p:cNvPr id="55" name=""/>
            <p:cNvSpPr/>
            <p:nvPr/>
          </p:nvSpPr>
          <p:spPr>
            <a:xfrm>
              <a:off x="0" y="2590560"/>
              <a:ext cx="899136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899136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914400"/>
              <a:ext cx="899136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4952880"/>
              <a:ext cx="899136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4032000" cy="497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7640" y="292104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do know my  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61800"/>
            <a:ext cx="8280360" cy="3643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4149720"/>
            <a:ext cx="7634160" cy="22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comic du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1930s 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urel and Hard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.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ne is called Stan Laurel, th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t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Oliver Hardy. They are funny because they are each other’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ppos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lev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il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333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40984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60" y="2874960"/>
          <a:ext cx="1113120" cy="1535040"/>
        </p:xfrm>
        <a:graphic>
          <a:graphicData uri="http://schemas.openxmlformats.org/drawingml/2006/table">
            <a:tbl>
              <a:tblPr/>
              <a:tblGrid>
                <a:gridCol w="842760"/>
                <a:gridCol w="27036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Mr Bean"/>
          <p:cNvPicPr/>
          <p:nvPr/>
        </p:nvPicPr>
        <p:blipFill>
          <a:blip r:embed="rId2"/>
          <a:stretch/>
        </p:blipFill>
        <p:spPr>
          <a:xfrm>
            <a:off x="468360" y="506520"/>
            <a:ext cx="8143920" cy="277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6560" y="3929040"/>
            <a:ext cx="835344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Rowan Atkins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cts different comic characters he is most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famou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round the world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as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B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Mr.  Bean  is funny  because  he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makes  funny fac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cts sil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seems  to be  quite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stup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and the things he does ar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stran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54280" y="44280"/>
            <a:ext cx="317844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Headsh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00" y="44280"/>
            <a:ext cx="343836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48360" y="260280"/>
            <a:ext cx="194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Dustin Hoff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in the film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ootsie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(1982).     In this film Hoffma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cts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role of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wo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and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013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ee that his performance wa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you often can’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the differ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nd in the film of course there are all kind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ny mo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HPortrIntro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593800" cy="1896840"/>
          </a:xfrm>
          <a:prstGeom prst="rect">
            <a:avLst/>
          </a:prstGeom>
          <a:ln w="0">
            <a:noFill/>
          </a:ln>
        </p:spPr>
      </p:pic>
      <p:pic>
        <p:nvPicPr>
          <p:cNvPr id="73" name="DH82Tootsie02p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9360" y="1295280"/>
            <a:ext cx="2306520" cy="3105360"/>
          </a:xfrm>
          <a:prstGeom prst="rect">
            <a:avLst/>
          </a:prstGeom>
          <a:ln w="0">
            <a:noFill/>
          </a:ln>
        </p:spPr>
      </p:pic>
      <p:pic>
        <p:nvPicPr>
          <p:cNvPr id="74" name="DH82Tootsie01" descr=""/>
          <p:cNvPicPr/>
          <p:nvPr/>
        </p:nvPicPr>
        <p:blipFill>
          <a:blip r:embed="rId5"/>
          <a:stretch/>
        </p:blipFill>
        <p:spPr>
          <a:xfrm>
            <a:off x="6095880" y="1295280"/>
            <a:ext cx="2438640" cy="312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3429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otsie (19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724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b56"/>
                </a:solidFill>
                <a:latin typeface="Times New Roman"/>
              </a:rPr>
              <a:t>In the film, he acts the role of a woman, and many people agree that his performance was so good that you often can’t tell the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14:12:08Z</dcterms:created>
  <dc:creator>雷安梅</dc:creator>
  <dc:description/>
  <dc:language>en-US</dc:language>
  <cp:lastModifiedBy>雷安梅</cp:lastModifiedBy>
  <dcterms:modified xsi:type="dcterms:W3CDTF">2004-05-31T05:17:45Z</dcterms:modified>
  <cp:revision>15</cp:revision>
  <dc:subject/>
  <dc:title>PowerPoint 演示文稿</dc:title>
</cp:coreProperties>
</file>